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9D2-5C48-4FAA-94E6-CCB669DE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159-82F1-4877-A600-78680ACD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99C-C327-4C55-AB7C-6562ACA3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950-8B57-4D6E-A11A-35547A35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FF4-3D12-44F9-ABEF-C4064934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755-0A26-4AE7-AC0A-550027FA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F86-7A87-4FB7-916C-B2A76EBC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354-84F2-4336-B5DB-ECCCDA9C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79E-75BF-4633-99CC-6468D801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86A-D6DF-4DBC-B3BA-EC80DFBE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397-ACB6-49B0-9BDD-0B1F665C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A98-9DB6-439B-B332-8C152404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8687-E3E4-40F5-859A-8D460215A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computerlab.wikispaces.com/Keyboarding" TargetMode="External"/><Relationship Id="rId2" Type="http://schemas.openxmlformats.org/officeDocument/2006/relationships/hyperlink" Target="http://dcomputerlab.wikispaces.com/Internet+Safety" TargetMode="External"/><Relationship Id="rId3" Type="http://schemas.openxmlformats.org/officeDocument/2006/relationships/hyperlink" Target="http://www.netsmartz.org/NetSmartzKids/PasswordRap" TargetMode="External"/><Relationship Id="rId4" Type="http://schemas.openxmlformats.org/officeDocument/2006/relationships/hyperlink" Target="http://www.media-awareness.ca/english/games/privacy_playground/index.cfm" TargetMode="External"/><Relationship Id="rId5" Type="http://schemas.openxmlformats.org/officeDocument/2006/relationships/hyperlink" Target="http://www.media-awareness.ca/english/games/privacy_playground/index.cfm" TargetMode="External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computerlab.wikispaces.com/Internet+Safety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and Dismiss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head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eyboar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eyboard Covers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 Reading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lassroom teacher to provide actual test 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ssword 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irst Adventures of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yber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522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 Black"/>
              </a:rPr>
              <a:t>Augu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ing- Keyboard Covers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 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dventures of Cyber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33526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16:25:48Z</dcterms:created>
  <dc:creator>dcomputerlab</dc:creator>
  <dc:description/>
  <dc:language>en-US</dc:language>
  <cp:lastModifiedBy>Dawson</cp:lastModifiedBy>
  <dcterms:modified xsi:type="dcterms:W3CDTF">2011-08-30T03:49:23Z</dcterms:modified>
  <cp:revision>9</cp:revision>
  <dc:subject/>
  <dc:title>August</dc:title>
</cp:coreProperties>
</file>